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8574-7405-4A63-BFD4-D9CD8E3A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AEBD-9075-45B7-AF43-34DC2251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B680-90B1-4007-93FD-71623BA0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597B-31C5-43C4-AC60-D7E34F17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3A62-A145-40AC-A1F9-347207F2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B67B-929C-4718-B958-2877C251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8E3C-9223-425E-AB61-574D6DC7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F31C-A584-49AC-B7BA-A7C78402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D0EF-77EB-4B2D-A2D0-CF6A68D7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7D96-D48A-4368-AB36-3B43B8E5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14E3-4BBB-4DE5-8A14-B40BB912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0155-4C3F-4CC9-8F61-884B4246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DCEA-39E9-42B1-BAC9-95E0FA030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Examples of How the Blitz Will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-1066680" y="279072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6680" y="279072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257800" y="1447920"/>
            <a:ext cx="2971800" cy="2401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219320" y="4038480"/>
            <a:ext cx="3047760" cy="2478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334120" y="4038480"/>
            <a:ext cx="2819160" cy="2438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295280" y="1447920"/>
            <a:ext cx="2895840" cy="2401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10620600">
            <a:off x="1216080" y="1598400"/>
            <a:ext cx="550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447920"/>
            <a:ext cx="22100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room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—GR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ch--1 LLI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LI Teacher-- 2 LLI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1600200"/>
            <a:ext cx="3048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room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—GR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LI Teacher—2 LLI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4343400"/>
            <a:ext cx="2590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room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—GR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ch--1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LI Teacher—2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4191120"/>
            <a:ext cx="3048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room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—GR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LI Teacher—2 LLI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52388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:30-10: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22748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:45-11: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f There Are Five Classroo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2743200"/>
            <a:ext cx="2209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room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—GR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ch—1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LI—2 LLI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3640" y="2514600"/>
            <a:ext cx="138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:45-12: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7128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adding the additional cla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7400" y="2590920"/>
            <a:ext cx="34704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itz Big Ide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hildren are engaged in reading worksh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one adult is working in a classroom—share responsibility for student grow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development model for teachers on conferencing, guided reading, independent reading and writing about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6T15:56:54Z</dcterms:created>
  <dc:creator>Lawrence</dc:creator>
  <dc:description/>
  <dc:language>en-US</dc:language>
  <cp:lastModifiedBy>Lawrence</cp:lastModifiedBy>
  <dcterms:modified xsi:type="dcterms:W3CDTF">2009-08-16T19:29:10Z</dcterms:modified>
  <cp:revision>4</cp:revision>
  <dc:subject/>
  <dc:title>Examples of How the Blitz Will Work</dc:title>
</cp:coreProperties>
</file>